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940-A9C9-4920-8560-9E82E626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819-2531-4E0F-9994-1C0F20A2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741-D813-4B6E-882B-0365780F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D11-DBD7-4721-8D13-417F84F4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BDBB-E3A2-4252-A213-07A50608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523E-81EB-4E13-90E2-C61132A9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64C2-DD7B-45CC-B49C-3DF26570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CF12-3E9F-4CC6-866B-BE357A72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A8B4-164D-40E1-8AF8-2C01B442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74EE-6F91-4C2B-B9D8-791BE246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A754-7446-43EC-A3E9-BCAB52FA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061-E3BE-415F-92E4-000DFF03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9F9E-B89F-4176-803B-71C9623C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40E1-0109-4198-BD27-86992833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C7B5-FAF6-443C-83C5-736B4BC2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EB98-CA0C-4CC9-96E3-35623BC4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1479-9EC7-4537-B921-D7F6F83B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64F-5F88-4738-B736-BE75930E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59D-046C-4AB1-BD7C-9C640829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C6C-3D69-473F-8AB5-40316DAD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CC6-0569-41A2-8612-FA4A3610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567-2E43-4A01-A4EC-7E9C6555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5A6-63B5-4F97-81F5-8B119CB0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8D0-5C1A-4DA8-A43A-6CF65E73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E195-D632-4F64-9DB6-99F0BB3E2D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4FBB-0119-4A52-9315-48038C199A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do I write in the Margin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n-linguistic represent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escribe what author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r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efine key terms, paraphras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ow does it relate to me or wor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o ideas, arguments, claim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hat is author saying?, what do I understand, what is purpos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t the 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hat author is saying/do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22:35:36Z</dcterms:created>
  <dc:creator>Nvasquez</dc:creator>
  <dc:description/>
  <dc:language>en-US</dc:language>
  <cp:lastModifiedBy>Nvasquez</cp:lastModifiedBy>
  <dcterms:modified xsi:type="dcterms:W3CDTF">2009-11-13T22:40:31Z</dcterms:modified>
  <cp:revision>1</cp:revision>
  <dc:subject/>
  <dc:title>What do I write in the Margins?</dc:title>
</cp:coreProperties>
</file>